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9A1F-1D3A-4E82-A7E4-B1047181B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knowledge = stuff other people know too, even if you had to look it up [e.g. Abraham Lincoln’s birthday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52E-1311-48EC-9B53-5260CB5E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DC1-7DA1-4EDF-AB13-83493C29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8A9-E5BF-447E-8639-284D1B2E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880-BE02-4B41-8790-0B1C7221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F020-F63B-4E11-B37D-1AE6BBA9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5D6A-5871-4CD4-8212-D3E54AD6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8006-4E13-4BC8-B7C6-53BF5003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08FB-6572-43D1-8116-9948B1D2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E7B4-D4D2-49AF-AC8E-7C0E3BA4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09E1-38E6-4062-B456-00561C1B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A706-597A-4E91-8D10-CFDDDE4D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C3F-01BB-4D53-8114-51D24222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5B59-1021-4EFB-85ED-9E24594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8EA3-5B8A-4E63-B04A-4315D14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D9C0-96FC-42C4-A73A-7BF904D4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2444-C176-4717-A067-E184F38A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59B3-988F-4504-8381-4CAEE874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698-3759-4B96-B8B9-C4A2A5B0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A81-E5A6-4C02-8D18-8579BF67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408-0F6C-44D3-A29B-B70074C2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E36-4092-4041-B9D4-81EAC759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542-BB0B-41C3-B39F-4026EF4B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910-6C2F-4BE4-A8A4-99736FA0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F61-8B5F-4882-87B7-E918548F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B333-0AFE-4958-9D28-2AFB4129D9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40E0-FEFC-41A9-A851-EAED0CBCA8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po.int/about-ip/en/" TargetMode="External"/><Relationship Id="rId2" Type="http://schemas.openxmlformats.org/officeDocument/2006/relationships/hyperlink" Target="http://en.wikipedia.org/wiki/Intellectual_property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kerd.edu/academics/writingcenter/tips/sources.php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imple Introduction to Intellectual Propert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Speechm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tion: Intellectual Proper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lectual property refers to creations of the mind: inventions, literary and artistic works, and symbols, names, images, and designs used in commer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urce: World Intellectual Property Organization, </a:t>
            </a:r>
            <a:r>
              <a:rPr b="0" lang="en-US" sz="20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What is intellectual property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trieved July 24, 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"intellectual property" denotes the specific legal rights which authors, inventors and other IP holders may hold and exercise, and not the intellectual work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urce: Wikipedia, </a:t>
            </a:r>
            <a:r>
              <a:rPr b="0" lang="en-US" sz="20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Intellectual 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d July 24, 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Rationale—why do we need to protect people’s thoughts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ularly in an academic setting, all you “own” are your thoughts and work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could steal your ideas or products, what would be the incentive to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IP relates to public speaking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udience needs to trust you—honesty is essential to your cred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udience wants to know what *you* have to say…whether you believe it or not, you can find a topic to speak on authoritatively and interesting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mplica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ntral method of instruction sometimes is imitation/modeling. This can be useful for instructional purposes…but it is not a creative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rdest part is knowing what is common knowledge and what is someone else’s intellectual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Basic Guidelines: What should be cited?</a:t>
            </a:r>
            <a:br>
              <a:rPr sz="1200"/>
            </a:br>
            <a:r>
              <a:rPr b="0" lang="en-US" sz="1000" spc="-1" strike="noStrike">
                <a:solidFill>
                  <a:srgbClr val="8c0039"/>
                </a:solidFill>
                <a:latin typeface="Arial"/>
              </a:rPr>
              <a:t>(Source: Eckerd College Writing Center, </a:t>
            </a:r>
            <a:r>
              <a:rPr b="0" lang="en-US" sz="10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Documenting Source Material</a:t>
            </a:r>
            <a:r>
              <a:rPr b="0" lang="en-US" sz="1000" spc="-1" strike="noStrike" u="sng">
                <a:solidFill>
                  <a:srgbClr val="8c0039"/>
                </a:solidFill>
                <a:uFillTx/>
                <a:latin typeface="Arial"/>
              </a:rPr>
              <a:t>, retrieved July 24, 2007.)</a:t>
            </a:r>
            <a:endParaRPr b="0" lang="en-US" sz="1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verything that isn’t common knowledg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o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c36c03"/>
              </a:buClr>
              <a:buSzPct val="70000"/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 Phr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c36c03"/>
              </a:buClr>
              <a:buSzPct val="70000"/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c36c03"/>
              </a:buClr>
              <a:buSzPct val="70000"/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entence or two explaining it and how it supports your the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aphr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        Signal Phr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        C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ignificantly change the wording and/or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)        Explain how the information pertains to and/or supports your the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to attribute work to others…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ggests, argues, claims, asserts, fin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…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werPoint sli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Wikipedia, Intellectual Property, retrieved July 24, 2007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s this wrong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someone else’s PowerPoint and using it, but speaking your own words ab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someone else’s speech online and borrowing key ideas? …minor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6:25:48Z</dcterms:created>
  <dc:creator>walkinnet</dc:creator>
  <dc:description/>
  <dc:language>en-US</dc:language>
  <cp:lastModifiedBy>walkinnet</cp:lastModifiedBy>
  <dcterms:modified xsi:type="dcterms:W3CDTF">2007-07-28T14:04:57Z</dcterms:modified>
  <cp:revision>12</cp:revision>
  <dc:subject/>
  <dc:title>A Simple Introduction to Intellectual Property  and Speechmaking</dc:title>
</cp:coreProperties>
</file>